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hilari2.wav" ContentType="audio/x-wav"/>
  <Override PartName="/ppt/media/cowbell.wav" ContentType="audio/x-wav"/>
  <Override PartName="/ppt/media/kiss2.wav" ContentType="audio/x-wav"/>
  <Override PartName="/ppt/media/cartoon3.wav" ContentType="audio/x-wav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F4327-9A0A-495A-B440-D33DF345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065B-7C6F-46E8-88F9-F7FF6E41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457D-B1B5-4B25-9F19-3A8CF1A5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BFFE-30AC-4FC1-A4C0-61E3F706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D791-B834-4F4B-AD8B-7722191E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1D92-5915-4516-AA89-3D504E9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DFC4-34B3-49F6-AFDD-B2D70497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7A34-2149-4F25-A38E-84AA5226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F8DF-515E-4012-80CE-D4C95F4D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D623-4B03-48AF-B4E1-6C1D1AA0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87A7-42DC-423F-BE40-66EC4233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8524-C525-45C9-B326-D270398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182-46E3-463F-801A-217CF5D5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E76F-BB3F-40E9-BE1B-5A24BD6F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8C9C-72C9-4DF4-A760-CDA4C192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9F0C-B4D8-4502-B866-A532FDFD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092D-0228-4682-89A1-3256A8FC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C0C2-6999-4CFF-84E2-5AA60719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4E87-0ABC-48AA-A9CD-4FE2BD39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D4BC-4F95-463A-94E7-658D7EFE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57F0-F390-4BE4-B68A-2B5031FA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803E-2796-4A37-B474-7F852CE0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D8FD2-3D4B-4C6E-8287-9C2F13A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DF65-BB8C-4AD1-89F5-7544EA39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142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32e3d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b384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b384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699A-1CE1-4730-A001-107E17742D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142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32e3d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b384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b384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B8D-938B-465A-BB38-A55944063C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1st_place_medal_md_clr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QUI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OY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W FILL IN THE BLANKS ON THE FOLLOWING SLIDES WITH A WORD FROM THE LIST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5720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UST ______ THE FOOD FOR THE LOVE FEAST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urtain"/>
          <p:cNvPicPr/>
          <p:nvPr/>
        </p:nvPicPr>
        <p:blipFill>
          <a:blip r:embed="rId1"/>
          <a:stretch/>
        </p:blipFill>
        <p:spPr>
          <a:xfrm>
            <a:off x="3733920" y="1219320"/>
            <a:ext cx="2539800" cy="2539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447920" y="4419720"/>
            <a:ext cx="6858000" cy="190476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143000" y="4952880"/>
            <a:ext cx="6858000" cy="190512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533520"/>
            <a:ext cx="82296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ENT WORKED _________ ON HIS SCIENCE PROJE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curtain"/>
          <p:cNvPicPr/>
          <p:nvPr/>
        </p:nvPicPr>
        <p:blipFill>
          <a:blip r:embed="rId1"/>
          <a:stretch/>
        </p:blipFill>
        <p:spPr>
          <a:xfrm>
            <a:off x="2743200" y="22860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0" y="4648320"/>
            <a:ext cx="6858000" cy="190476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1143000"/>
            <a:ext cx="82296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_______A 3.5 GPA FOR THE HONORS PROGRA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curtain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4572000"/>
            <a:ext cx="6858000" cy="190512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80880" y="99072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 _________ TO BRUSH YOUR TEE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A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curtain"/>
          <p:cNvPicPr/>
          <p:nvPr/>
        </p:nvPicPr>
        <p:blipFill>
          <a:blip r:embed="rId1"/>
          <a:stretch/>
        </p:blipFill>
        <p:spPr>
          <a:xfrm>
            <a:off x="6248520" y="251460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228600" y="4572000"/>
            <a:ext cx="6858000" cy="190512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533520" y="1447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________ FRIEND IS HONEST IS AT ALL TIM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curtain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ETS SEE WHAT YOU GOT RIGHT!</a:t>
            </a:r>
            <a:br>
              <a:rPr sz="8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W GO BACK AND UNCOVER THE WO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*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under the curtai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Kiana Gordon</cp:lastModifiedBy>
  <dcterms:modified xsi:type="dcterms:W3CDTF">2010-05-06T04:09:58Z</dcterms:modified>
  <cp:revision>9</cp:revision>
  <dc:subject/>
  <dc:title>Guess the Covered Word</dc:title>
</cp:coreProperties>
</file>